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6.jpeg" ContentType="image/jpeg"/>
  <Override PartName="/ppt/media/image7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AF80-DB5F-4D77-BE4C-9764856DE5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207C-90C0-4F04-A13A-3B4C6B667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6E67-98CC-4482-9FEC-86FD422FC2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EAB3-2538-48F9-875A-11FF92496A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694D-7EFF-4095-96E6-5F7C512AA7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44F0-9308-4314-AE67-99EC87316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6E05-A359-4BC0-B258-5A9D2101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31ED-2331-4EAB-A233-BDE8F711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4E3C-60D3-4480-A582-4DF9023BB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6626-10D9-43D4-9DF4-47407116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F562-0F77-4AE4-9289-DE4F1504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D24F-6A19-4E14-BB3E-B9945DA0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DAA5-65A6-43F1-A071-D3BD29F8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F5CA-312E-4A48-9575-36E3B8F6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D2CE-8477-4C8E-A8D5-54F45648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CDDF-619C-468F-B5F1-2323B9EB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A9E4-1F03-4B86-860B-317A87D3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77B5-83A8-40D7-A608-AF63CD06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E67A-B97F-4123-88EC-D55215314D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UI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K/V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ack has been created to give students  a chance to review and master fluid calculation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ing objectiv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he end of this pack students should be able to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ctly calculate the required fluids for different  patien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familiar with the standard intake and output recording char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and balance fluids on intake and output char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UID CALCUL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engbg.png"/>
          <p:cNvPicPr/>
          <p:nvPr/>
        </p:nvPicPr>
        <p:blipFill>
          <a:blip r:embed="rId2"/>
          <a:stretch/>
        </p:blipFill>
        <p:spPr>
          <a:xfrm>
            <a:off x="0" y="5587920"/>
            <a:ext cx="9144000" cy="1270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~t085850.emf"/>
          <p:cNvPicPr/>
          <p:nvPr/>
        </p:nvPicPr>
        <p:blipFill>
          <a:blip r:embed="rId3"/>
          <a:stretch/>
        </p:blipFill>
        <p:spPr>
          <a:xfrm>
            <a:off x="190440" y="5791320"/>
            <a:ext cx="5092920" cy="807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enga.png"/>
          <p:cNvPicPr/>
          <p:nvPr/>
        </p:nvPicPr>
        <p:blipFill>
          <a:blip r:embed="rId4"/>
          <a:stretch/>
        </p:blipFill>
        <p:spPr>
          <a:xfrm>
            <a:off x="4959360" y="5986440"/>
            <a:ext cx="1473120" cy="432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engb.png"/>
          <p:cNvPicPr/>
          <p:nvPr/>
        </p:nvPicPr>
        <p:blipFill>
          <a:blip r:embed="rId5"/>
          <a:stretch/>
        </p:blipFill>
        <p:spPr>
          <a:xfrm>
            <a:off x="7135920" y="5986440"/>
            <a:ext cx="173196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4 hour Intake and Output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engbg.png"/>
          <p:cNvPicPr/>
          <p:nvPr/>
        </p:nvPicPr>
        <p:blipFill>
          <a:blip r:embed="rId2"/>
          <a:stretch/>
        </p:blipFill>
        <p:spPr>
          <a:xfrm>
            <a:off x="0" y="5587920"/>
            <a:ext cx="9144000" cy="1270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~t085947.emf"/>
          <p:cNvPicPr/>
          <p:nvPr/>
        </p:nvPicPr>
        <p:blipFill>
          <a:blip r:embed="rId3"/>
          <a:stretch/>
        </p:blipFill>
        <p:spPr>
          <a:xfrm>
            <a:off x="190440" y="5791320"/>
            <a:ext cx="5092920" cy="807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enga.png"/>
          <p:cNvPicPr/>
          <p:nvPr/>
        </p:nvPicPr>
        <p:blipFill>
          <a:blip r:embed="rId4"/>
          <a:stretch/>
        </p:blipFill>
        <p:spPr>
          <a:xfrm>
            <a:off x="4959360" y="5986440"/>
            <a:ext cx="1473120" cy="43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engb.png"/>
          <p:cNvPicPr/>
          <p:nvPr/>
        </p:nvPicPr>
        <p:blipFill>
          <a:blip r:embed="rId5"/>
          <a:stretch/>
        </p:blipFill>
        <p:spPr>
          <a:xfrm>
            <a:off x="7135920" y="5986440"/>
            <a:ext cx="173196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luids and electrolyte balance quiz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1" descr="engbg.png"/>
          <p:cNvPicPr/>
          <p:nvPr/>
        </p:nvPicPr>
        <p:blipFill>
          <a:blip r:embed="rId2"/>
          <a:stretch/>
        </p:blipFill>
        <p:spPr>
          <a:xfrm>
            <a:off x="0" y="5587920"/>
            <a:ext cx="9144000" cy="1270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3" descr="~t090046.emf"/>
          <p:cNvPicPr/>
          <p:nvPr/>
        </p:nvPicPr>
        <p:blipFill>
          <a:blip r:embed="rId3"/>
          <a:stretch/>
        </p:blipFill>
        <p:spPr>
          <a:xfrm>
            <a:off x="63360" y="5769000"/>
            <a:ext cx="5740560" cy="1230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4" descr="enga.png"/>
          <p:cNvPicPr/>
          <p:nvPr/>
        </p:nvPicPr>
        <p:blipFill>
          <a:blip r:embed="rId4"/>
          <a:stretch/>
        </p:blipFill>
        <p:spPr>
          <a:xfrm>
            <a:off x="4959360" y="5986440"/>
            <a:ext cx="1473120" cy="432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" descr="qmb.png"/>
          <p:cNvPicPr/>
          <p:nvPr/>
        </p:nvPicPr>
        <p:blipFill>
          <a:blip r:embed="rId5"/>
          <a:stretch/>
        </p:blipFill>
        <p:spPr>
          <a:xfrm>
            <a:off x="7135920" y="5986440"/>
            <a:ext cx="173196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06:55:23Z</dcterms:created>
  <dc:creator>student</dc:creator>
  <dc:description/>
  <dc:language>en-US</dc:language>
  <cp:lastModifiedBy>student</cp:lastModifiedBy>
  <dcterms:modified xsi:type="dcterms:W3CDTF">2012-04-20T07:10:01Z</dcterms:modified>
  <cp:revision>12</cp:revision>
  <dc:subject/>
  <dc:title>FLUID CALCUL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C71AE5B5-1988-414E-9B62-098E23F234EA</vt:lpwstr>
  </property>
  <property fmtid="{D5CDD505-2E9C-101B-9397-08002B2CF9AE}" pid="3" name="ArticulatePath">
    <vt:lpwstr>FLUID CALCULATION</vt:lpwstr>
  </property>
  <property fmtid="{D5CDD505-2E9C-101B-9397-08002B2CF9AE}" pid="4" name="ArticulateProjectFull">
    <vt:lpwstr>\\SV-PDC\cms\MCHS\FLUID CALCULATION APRIL 20.ppta</vt:lpwstr>
  </property>
  <property fmtid="{D5CDD505-2E9C-101B-9397-08002B2CF9AE}" pid="5" name="ArticulateUseProject">
    <vt:lpwstr>1</vt:lpwstr>
  </property>
</Properties>
</file>