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14.wmf" ContentType="image/x-wmf"/>
  <Override PartName="/ppt/media/image6.png" ContentType="image/png"/>
  <Override PartName="/ppt/media/image28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13.jpeg" ContentType="image/jpeg"/>
  <Override PartName="/ppt/media/image30.jpeg" ContentType="image/jpeg"/>
  <Override PartName="/ppt/media/image5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.jpeg" ContentType="image/jpeg"/>
  <Override PartName="/ppt/media/image25.wmf" ContentType="image/x-wmf"/>
  <Override PartName="/ppt/media/image15.jpeg" ContentType="image/jpeg"/>
  <Override PartName="/ppt/media/image16.wmf" ContentType="image/x-wmf"/>
  <Override PartName="/ppt/media/image18.jpeg" ContentType="image/jpeg"/>
  <Override PartName="/ppt/media/image29.wmf" ContentType="image/x-wmf"/>
  <Override PartName="/ppt/media/image1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7810-E5E3-4F66-8885-876EB10F0540}" type="slidenum">
              <a:rPr b="0" lang="en-Z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D9BD-1A4E-4DA6-B5C1-79A04A6D59BF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970A-B21F-4CDE-AA87-AEB5E1FAC5B4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1CD-8F69-48FF-AA09-6C21A4818F52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E8E4-BBDC-45AD-B4F3-F271D48073C2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E644-5652-4888-AF52-1610962E83F7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460C-7FC9-46A7-A042-DD00BF68ED99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D8F8-C67C-485F-9A0B-37EDC66F44D6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D2E-D162-47DA-9EF3-4DCA43EF6ABD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CED4-5443-47B7-9C9A-07EEDB957636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6503-8DA3-41F0-9B3C-F80B2D94207A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4673-713A-4AF9-A7FB-FC0E560570E5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B88E-F103-46E0-A3D2-D9C023BC6E42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EDF-F98F-4FB2-9813-D9C00EBD4261}" type="slidenum">
              <a:rPr b="0" lang="en-Z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1CC-E74F-4FCB-9B76-FA0C9DF6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AA5-E90F-4A6C-B534-EB8FA0D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607-918B-4CA0-B45B-FFFA310D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D5A-3509-4CCC-8E4F-FB95760C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05A7-34C7-4AED-86EE-44C1AD5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0C12-E200-4099-AA61-75621EF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A51E-0577-4A98-B6A6-6D6F204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9758-A373-49BE-89DC-03444BB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FC3-C49D-4A76-9976-2D39BBB2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44F-6D87-479E-A004-C1BB73A1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AE0C-3917-478C-B4D6-7AEC32ED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983-4D65-4DCF-A44B-BD8F721F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39DE-81EF-4B68-A008-8DCB17A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973A-1C42-4A46-A973-BB88145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C671-0E95-4BD6-B17D-0F7E0C9E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9D24-C7F7-46E4-82E5-208347F1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8223-5190-4B99-BEFF-E00F711B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20D-5E97-4609-AFD5-79A9E35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23D-D79D-47FD-BACB-E265891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520-59A8-4C2C-9D34-4FF8A75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C90-2711-4ECB-9D69-942AA283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4A0-25D1-4141-A34B-1D468E3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218-009C-4B85-A25A-557BB7D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533-24F5-4255-9516-EAD6AC9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DE1-E0A6-441E-9C70-3D14A1DA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9E51-2157-48E7-B71D-24D02D5047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wmf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image" Target="../media/image2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image" Target="../media/image29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image" Target="../media/image31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T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9" descr="engbg.png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38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~t133626.emf"/>
          <p:cNvPicPr/>
          <p:nvPr/>
        </p:nvPicPr>
        <p:blipFill>
          <a:blip r:embed="rId3"/>
          <a:stretch/>
        </p:blipFill>
        <p:spPr>
          <a:xfrm>
            <a:off x="190440" y="5816520"/>
            <a:ext cx="5092920" cy="808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UMORAL (ANTI-BODY) IMMUNE RESPO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munocompetent but immature B cell is stimulated to complete its development into a mature B cell when an antigen binds to its recep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activates the lymphocyte to switch on and underg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nal 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UMORAL (ANTI-BODY) IMMUNE RESPO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ymphocyte begins to grow and multiply rapidly and form an army of identical cells with the same antigen-specific receptors – these are calle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mation of clones i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humoral respo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ant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clone cells becom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sma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QUIZ QUESTION BODY DEF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5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7" descr="~t134605.emf"/>
          <p:cNvPicPr/>
          <p:nvPr/>
        </p:nvPicPr>
        <p:blipFill>
          <a:blip r:embed="rId3"/>
          <a:stretch/>
        </p:blipFill>
        <p:spPr>
          <a:xfrm>
            <a:off x="63360" y="5769000"/>
            <a:ext cx="5740560" cy="1230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8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9" descr="qm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Labeled Graph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~t150036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T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~t152538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Labeled Graph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nga.png"/>
          <p:cNvPicPr/>
          <p:nvPr/>
        </p:nvPicPr>
        <p:blipFill>
          <a:blip r:embed="rId3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ngb.png"/>
          <p:cNvPicPr/>
          <p:nvPr/>
        </p:nvPicPr>
        <p:blipFill>
          <a:blip r:embed="rId4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~t101442.emf"/>
          <p:cNvPicPr/>
          <p:nvPr/>
        </p:nvPicPr>
        <p:blipFill>
          <a:blip r:embed="rId5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T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~t100051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~t214344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T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~t115006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T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~t114705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Guided I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8" descr="engbg.png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384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~t134600.emf"/>
          <p:cNvPicPr/>
          <p:nvPr/>
        </p:nvPicPr>
        <p:blipFill>
          <a:blip r:embed="rId3"/>
          <a:stretch/>
        </p:blipFill>
        <p:spPr>
          <a:xfrm>
            <a:off x="190440" y="5816520"/>
            <a:ext cx="5092920" cy="808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LYMPH N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9" descr="engbg.png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38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~t102858.emf"/>
          <p:cNvPicPr/>
          <p:nvPr/>
        </p:nvPicPr>
        <p:blipFill>
          <a:blip r:embed="rId3"/>
          <a:stretch/>
        </p:blipFill>
        <p:spPr>
          <a:xfrm>
            <a:off x="190440" y="5816520"/>
            <a:ext cx="5092920" cy="808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4400" spc="-1" strike="noStrike">
                <a:solidFill>
                  <a:srgbClr val="ccecff"/>
                </a:solidFill>
                <a:latin typeface="Arial"/>
              </a:rPr>
              <a:t>Pyramid Dia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9" descr="engbg.png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384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~t095517.emf"/>
          <p:cNvPicPr/>
          <p:nvPr/>
        </p:nvPicPr>
        <p:blipFill>
          <a:blip r:embed="rId3"/>
          <a:stretch/>
        </p:blipFill>
        <p:spPr>
          <a:xfrm>
            <a:off x="190440" y="5816520"/>
            <a:ext cx="5092920" cy="808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MMUNE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antigen specif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hat is it recognizes and acts against particular pathogens or foreign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system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immunity is not restricted to the initial infection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has mem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it recognizes an mounts even stronger attacks on previous encountered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ELLS OF THE IMMUNE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ajor cells of the immune system are lymphocytes and macropha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immune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Immune%20System%20Response"/>
          <p:cNvPicPr/>
          <p:nvPr/>
        </p:nvPicPr>
        <p:blipFill>
          <a:blip r:embed="rId1"/>
          <a:stretch/>
        </p:blipFill>
        <p:spPr>
          <a:xfrm>
            <a:off x="1630440" y="345960"/>
            <a:ext cx="5883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2:26:07Z</dcterms:created>
  <dc:creator>Basic Sciences</dc:creator>
  <dc:description/>
  <dc:language>en-US</dc:language>
  <cp:lastModifiedBy>Basic Sciences</cp:lastModifiedBy>
  <dcterms:modified xsi:type="dcterms:W3CDTF">2012-07-24T10:20:44Z</dcterms:modified>
  <cp:revision>2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EA3580B8-5AB1-47DB-B7AD-38212669A8A8</vt:lpwstr>
  </property>
  <property fmtid="{D5CDD505-2E9C-101B-9397-08002B2CF9AE}" pid="3" name="ArticulatePath">
    <vt:lpwstr>LYMPHATIC SYSTEM</vt:lpwstr>
  </property>
  <property fmtid="{D5CDD505-2E9C-101B-9397-08002B2CF9AE}" pid="4" name="ArticulateProjectFull">
    <vt:lpwstr>C:\Users\Basic Sciences\Desktop\LYMPHATIC SYSTEM.ppta</vt:lpwstr>
  </property>
  <property fmtid="{D5CDD505-2E9C-101B-9397-08002B2CF9AE}" pid="5" name="ArticulateUseProject">
    <vt:lpwstr>1</vt:lpwstr>
  </property>
</Properties>
</file>