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70B-65F2-4EF7-8F6D-0288598A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BDE-BE04-4E30-8F6E-1EF369CF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0F9-6346-4584-AA9C-CE2399E8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828-1AFE-47C9-B98F-2050012E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EA5-5637-454C-8D07-0B03AE8E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499-AD3F-4E61-94B6-C00BECE5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2C2-BBA4-4481-8CA8-1B270ED9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C2C-2EEB-4A28-82F4-E712FDB6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0CE-5D67-4982-AD9E-6836FF05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C3B-FA1E-430E-B4A4-8E69BA6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FC8-1C82-4560-ABFA-7AC61A5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806-47D4-4057-8B9D-6806F7E3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917-8D6C-4F75-804D-EA557A84B612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CTIVE MANAGEMENT OF THIRD STAGE OF LABOU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RESE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 CHODZA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B MLE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 H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OBJECTIV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fine third stage of lab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outline equipment needed for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tag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cribe the active management of third stage of lab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STAGE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5" descr="engbg"/>
          <p:cNvPicPr/>
          <p:nvPr/>
        </p:nvPicPr>
        <p:blipFill>
          <a:blip r:embed="rId2"/>
          <a:stretch/>
        </p:blipFill>
        <p:spPr>
          <a:xfrm>
            <a:off x="0" y="5473800"/>
            <a:ext cx="9144000" cy="1384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~t190711"/>
          <p:cNvPicPr/>
          <p:nvPr/>
        </p:nvPicPr>
        <p:blipFill>
          <a:blip r:embed="rId3"/>
          <a:stretch/>
        </p:blipFill>
        <p:spPr>
          <a:xfrm>
            <a:off x="190440" y="5840280"/>
            <a:ext cx="4522680" cy="80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enga"/>
          <p:cNvPicPr/>
          <p:nvPr/>
        </p:nvPicPr>
        <p:blipFill>
          <a:blip r:embed="rId4"/>
          <a:stretch/>
        </p:blipFill>
        <p:spPr>
          <a:xfrm>
            <a:off x="4959360" y="5986440"/>
            <a:ext cx="1473120" cy="4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engb"/>
          <p:cNvPicPr/>
          <p:nvPr/>
        </p:nvPicPr>
        <p:blipFill>
          <a:blip r:embed="rId5"/>
          <a:stretch/>
        </p:blipFill>
        <p:spPr>
          <a:xfrm>
            <a:off x="7135920" y="5986440"/>
            <a:ext cx="173196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17:10Z</dcterms:created>
  <dc:creator>Malayika</dc:creator>
  <dc:description/>
  <dc:language>en-US</dc:language>
  <cp:lastModifiedBy>user</cp:lastModifiedBy>
  <dcterms:modified xsi:type="dcterms:W3CDTF">2011-05-13T09:57:56Z</dcterms:modified>
  <cp:revision>48</cp:revision>
  <dc:subject/>
  <dc:title>ACTIVE MANAGEMENT OF THIRD STAGE OF LAB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CBDC265F-570C-46DC-9069-DCAC4B4DFF89</vt:lpwstr>
  </property>
  <property fmtid="{D5CDD505-2E9C-101B-9397-08002B2CF9AE}" pid="3" name="ArticulatePath">
    <vt:lpwstr>ACTIVE MANAGEMENT OF THIRD STAGE OF LABOUR</vt:lpwstr>
  </property>
  <property fmtid="{D5CDD505-2E9C-101B-9397-08002B2CF9AE}" pid="4" name="ArticulateProjectFull">
    <vt:lpwstr>\\sv-pdc\bmlewah\ARTICULATE PROJECTS 2011\ACTIVE MANAGEMENT OF THIRD STAGE OF LABOUR.ppta</vt:lpwstr>
  </property>
  <property fmtid="{D5CDD505-2E9C-101B-9397-08002B2CF9AE}" pid="5" name="ArticulateUseProject">
    <vt:lpwstr>1</vt:lpwstr>
  </property>
</Properties>
</file>